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F4B-0A25-4633-948A-2D54C32E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633-5F89-4A44-BCC8-F836A4C1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ADB9-C5C5-49B9-8E24-D9D131F8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79F-72B2-4A8D-8F4D-50FCE203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3292-21DE-4E4A-864E-93074AF1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292-5EFB-4178-9A63-FE8C349F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1765-973C-4B8B-A6B4-5F347B3A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925-D427-4EFF-8BE6-3733A2E3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3EF-D752-4B04-A47E-363ECCBD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141-53E0-4F4C-880D-82F9E8B5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951-4084-4C75-B22A-52D2A3F0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749A-10D0-445D-A465-18E44B1B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971B-BCBF-4187-9FC8-680CC98C6A4C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FRUMOSU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2:49:49Z</dcterms:modified>
  <cp:revision>37</cp:revision>
  <dc:subject/>
  <dc:title>SALARIUL</dc:title>
</cp:coreProperties>
</file>